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chimes.wav" ContentType="audio/x-wav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dt" idx="7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ftr" idx="7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 type="sldNum" idx="7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778D-01A6-4919-87B2-F68E203F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286-348C-4EBE-8EEA-C3E397BB2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479-3DF0-4563-9BD0-FA6E5253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8B2-EDDF-49E7-BE08-78A16715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841-F529-4BA7-9FF2-9C2DEABD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FEAB5-6EE7-44DB-907F-F0807E24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66618-3491-4E1F-BE51-44695E08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81CC4-B84E-4DB2-9D7E-9C2D2FDE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ED13E-0317-4DDF-B0E4-4079BD5D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BCE09-8416-4DF1-9BA3-A878C0BD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3A634-E67A-425E-94A1-CED62DB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72AC2-AE8A-4C26-AF7D-C95D09FC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51D3B-456E-44FF-809C-C4A854B6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AEF72-7BFC-4422-83AE-D59F6A3D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B0D8E-340E-4698-A584-1427273F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422-92C9-4AB8-82C2-60219575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04FD7-C5CA-4991-A642-933C483B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3440C-B021-4BE2-8342-9A645DE8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B5804-0172-42CF-AD96-165D51E0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32754-84D7-4DA6-8490-7E0820FE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781F0-14A9-4F68-8A5A-79364BDA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75107-5970-452F-A71A-77EBF13F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7F1A4-B69B-4A83-A1C4-C38B934F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B94BC-C38B-45F2-8A62-4A3D88D3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E05F2-75A8-4C6F-A045-8C6C5680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2CE21-4262-4551-BEB8-6FABE53C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6CC-BCAB-45C9-B839-6489ECCA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2B739-1E6D-4976-91A4-29C0A974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8C3C7-44E2-4EF6-9A04-F6BAA849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9FCF6-A9E9-445F-B715-61D1215C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8565B-1E07-48B9-BE53-52F9637F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18BFC-4490-4827-9D8A-B4953121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A0939-FFC6-476C-8F99-DDBCB5C6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3B51E-3D1F-4F87-9FB9-87581D84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22822-9177-4FB8-9737-104D0F1D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3C602-6E7B-4E93-B79F-23CE3F5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F7E71-FEDF-4F91-9F1F-6067C27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17D1-67E6-4119-9462-0441BD14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804FB-EF21-4CED-8DE3-3925871B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3F917-2FC5-4D7F-B764-F0DA68B5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9C37C-1D4F-486E-8B41-0011C5B3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1F3FA-82B4-4474-9C13-29885FA3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4D3B7-1041-498F-A6D2-B788C8A7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D5ACA-AD1A-4CE6-B5EF-26A58BCF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5261F-F4CA-47E5-887A-CF2E170B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36044-D074-4974-839A-88762A4D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666E6-B453-4AE1-B2CA-43F5152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4EC2A-678B-4AFD-8966-E824AF42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AD61-9B4B-4B88-882A-C519129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13F83-BFB6-494A-BEEF-A97110CD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2C127-5E97-43E9-9D08-E8904D3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F640A-4094-48B5-8705-8019C33D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D72BE-0B7C-4C6D-ACCB-DB3967E1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0055C2-142C-4CD4-9AAF-F52604FB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C3E31-F552-474E-868F-7D83D366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BDA43-D2AF-4692-87CF-74FF3C3D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1FF39-83AB-4521-83D9-FCD0228B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70F59-91E5-4B6B-A48E-E991FE3D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F0D6B-8430-46B4-84ED-B9B70B6B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C0B5-0AE6-4714-B47F-CF1B8F96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B51F1-4563-4A25-89E0-C0010110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5CFF6-C32B-43E5-B3C8-0302DF53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23B6A-2199-4421-B435-2CB69ED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9C052-1DA3-407A-94BD-5A3D8B3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4D5FF-6EB5-4564-9725-F5DCFF3F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A42FE-10D8-4ECD-8BBC-3F1EA594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915F5-D0C9-483A-BEB2-2BCBF5DD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6D039-C01B-4E83-B33D-01F48F71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C9FBD-B502-4887-A659-29CF164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D4BFC-4D08-4B87-9B8F-1121A752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3D34-F86F-4B1F-AB3C-BAA59893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15DAD-6EEE-43AE-A31A-4C5ADB06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BC067-2854-41BD-849B-9059DF8E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AE02E-7773-4BE6-9B5F-0813B61E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F1465-6873-40BD-A070-D112616A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F606A-2472-461C-9796-1FFF926C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27327-E590-4E9F-B8F2-EDD2D07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1AE97-91BF-4F46-A4D0-FC202FE4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5A2DF-C0F3-47CC-AEEA-1678C6C1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C2F4B-D114-4EA7-A670-B9D3A207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56E26-4157-46FA-A5C1-3C35AA4B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6E6B-C051-4763-9143-2146AAE5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36BDC-D37F-41EE-99B9-88C45E9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05097-38B0-463E-93BF-0BC47474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14CA5-AF61-4C1B-AD1A-1BC3C78B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3861B-3C09-43A4-8014-870C0B7D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120DD-BDCB-43BD-BACF-0968C32F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00AD3-04CE-4040-A183-715F9ACA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8533E-33F1-4709-BEF3-CEF7008F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066CB-3475-46D7-9DFD-2EB6069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E0B2C-3EF8-468B-871A-2708DD01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6F075-7E3A-4A4B-993B-1E173301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FF2A-3FBC-4DBC-9637-717F7251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E6461-21A1-4345-A3A9-48B7694E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07281-9A40-467A-9400-B7AF2ED5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4BC08-DBD0-48D7-8B59-B95F6B69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10E14F-83D8-4293-8C72-CA137E27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C15357-DF99-46CD-B40F-9D4F7896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8DD02-C1D5-4F93-928B-5C64E86B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CBD00-DECA-4004-92AF-389868C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C7B31-DA29-40BF-9C80-52B271D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446D6-48C2-485C-BF5E-D5E2DDD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8D6FE1-828F-4BD6-831D-57D28C76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5A56-DD22-41FF-8F62-A5058FAA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008F5-D071-4E9D-AD4F-952A1D9A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6B030-86CD-48DE-8493-6B4CE50D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8915D-6B7A-4F8C-B5DA-7F137D3B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630E1-2ABF-4F0F-8EB1-A3F22E88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D74A0-BDB9-414F-9D98-A840C2FE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BAEBE-20A6-4B7A-8FEC-E1868B90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AE68DE-920D-4E6F-A3FB-BFE9DC01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269D1-3E7D-4444-A445-5B0BEDA9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A58CE-1E17-4BEF-89A8-11D338B2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41173-C6DD-4FCA-8743-5561EF9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52B-8FDD-4653-9B5C-2189C20D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295F-44B0-4965-B726-1B9C7403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308533-194C-4266-ADF3-24E75CB9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16072-CA6F-44E8-84AB-7E5E36AC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C05AE-69D5-4DE1-9B4A-8D08CC4D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E5B91-647C-46DB-ADB4-F96D3291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D4435-41F0-47BE-BBF3-F49493B3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18A86-3FF8-4128-904A-3DA6BD55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473EE-850F-4B02-BC26-1DF0AC68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B194A-8D14-474E-9D51-D72C1BB6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9F03E-8383-462E-942E-4A1B9A71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13FB98-D067-4F8E-B108-993A93E0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F709-801D-4F85-B2FE-765122BD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D5C8E-3DDB-4944-BB6E-8CE4A839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66CF6-57C1-4846-A134-0F6530A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31514-C466-4CA4-B61D-AE89E436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88BB5-D29E-4876-B240-294F65CB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8E910-0DB2-4633-B5F6-F629C5A3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070ED-9354-4F6F-B969-1293BBE2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83028-1D5E-4B5D-A0FD-E62F8F94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2A405-3A22-4259-A982-91BE50F0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366E07-2B9A-4AE4-84A5-B0DBA3A3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5ABF47-BBDF-426C-A81F-B9013BE3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F2E0-65C8-4FEE-851C-7D84DD6F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C3C512-CDD3-414C-A65E-8B33149A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FD69C-E070-4BCC-A032-17BBB0EF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7FE33-8F0C-4085-B3F9-E522B597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C202B-CA7A-44E3-BB12-FD685461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C1337-C95E-42B3-B1A1-0FE470C7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A2BA83-97B9-483D-A774-36935840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5FB59-298A-407F-922F-678DFD0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ADDB7-FCA0-4114-BDE9-57B79A94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AACDC-B126-4C11-9DFB-2F3956CC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A1730-6B49-4B5E-A00E-CA592857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7AE9-7E1F-41AB-90DA-E887E92B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864F56-A32F-4E67-A036-2B5A956B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03C188-C6DE-47DC-91DD-D6BA1CF6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27C68-990C-435C-A61A-75C0D556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B0D529-3E40-4CA3-B36D-2F36573F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76FB64-5C7D-430E-BDF9-4255B525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38F130-D8F5-43A0-9EFE-4FC95C3B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3EABE-A18E-43CA-A797-70F05F70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AF589-5450-4591-80B2-E0518AC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AB247-4000-4362-818F-F7A5F8AC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FACCC8-868E-441E-B2AF-7BD862B3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BA51-59EE-47A2-B3BF-D5913931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052BF-5438-47BD-A9D8-37C210E1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9CC7D-A291-4901-8CD2-0AA8475F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5C266E-4083-4C86-85E2-A9ECEE61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E277F-4C9C-4F83-B18F-23526AF1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A5D634-C627-4130-880C-08B6E1D1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27703-3FC4-4B14-91E8-ECC19139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9A8C51-2EBF-45AB-B68C-473C3A58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FBDAA-FE54-4A3A-B162-2F8FF65C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458A4-BC3D-4219-A9AD-89D1CA5B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80B7FF-EE9A-4C4A-9ED3-75428B8F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5EE3D-C955-41B0-9347-323B4651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40AC0C-A535-4662-A8E7-4B1D8C62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07C5F-2D3B-4652-8894-8B2B660F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BF8C9F-AADB-41D9-A8CA-C7E40835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D7B045-0301-4EAD-8AA3-00E765A1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CA1091-93A8-4FDE-AA5D-9291489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9D1968-8549-4BC6-8E7F-5CAF3643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B893DE-E7F4-492C-BACF-38F6249F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326EEC-CA8A-4B34-A59F-9E00E076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B4C9B9-58BF-44D7-9652-C450E458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2AA17B-1941-4A6D-B659-52F56D5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E0730-57FC-4546-BCD0-E7C1594F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4AB01A-886E-47C3-8B86-BAEDD96E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8A5591-B657-4972-A504-01189EC5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7A2FD8-349A-4455-ACEE-5A0BEAB7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09E848-A3E6-4C21-8883-A849DD6C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CA1FE7-CDAD-4039-B363-A4916FC9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D33B19-9604-4CCE-94C5-7F7E1A9F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9C97DF-E7C6-4467-808F-148DD8E0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8E7CE0-792D-4708-9DB9-91BE220B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5AEE8B-D63E-46C9-B651-F2C816A1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7932C-324A-449E-9241-9D62C0E0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74D30-06FB-48F5-96DF-027B9248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EAB79E-6469-4B2C-83AA-4C5D536D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C429C1-2F78-42D5-BECF-ED5605F2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46733C-2728-428E-B2D9-C905E7F2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D19BBB-12CE-4228-9A30-BF7FAD1B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03B35E-81B4-461E-AE47-13FF3C95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E5BAEB-EC6F-44CC-B84C-71A61B78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408206-D3C3-47C9-AB66-0F57F017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E1C14E-3292-4DBB-8B2F-3AD500B8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9206BB-4110-4329-9295-6AB5F13A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0D1A2F-3ED4-4067-81AA-08C1AB85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9A2D-28E1-4A90-8531-4E62E379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46A095-5F82-4868-8476-499A5E28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E4649D-5DA6-4B73-9830-6958149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BA9723-C63C-4187-997C-F2717881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2D0728-CCA8-4E34-B468-0B04C082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6792B9-58A5-4E08-B24A-2D8B7B34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26C7DF-7FE1-4A6E-A9A0-79F813E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F2C46D-E935-4E5F-9B27-83F24EAC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6ECF61-A672-4489-BCC4-557C421A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E3D5CB-D72E-4D2A-9656-10EE679F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FC89FB-DBC7-41E3-8E6D-0A2F347C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CDFA-F848-4715-8694-DFDCB92B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86BFC8-F898-496A-9EB9-95D4FDED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8C0040-A703-48CA-9F55-F0FA9885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8C3A8E-96E6-4D2C-B019-A3B481A5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2E79B3-8CEE-4D82-8CB0-04D7E625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7FC81D-C744-4461-9898-E8B61FA8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A7B9BA-6795-4216-B0D5-7896F743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B2D485-8917-41EB-AC9B-AEF2ACE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6120DE-35ED-4E4C-8E83-5180B322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B8D8DB-688A-4E33-81E5-ABBA459D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C268F5-45BF-40D8-BBCB-B4FED9D2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E95-A54B-467F-BEBD-F7EA4B00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C26F-424F-49A2-AA41-78AD7DB6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55372D-FC98-4450-87A5-C6DDA84E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6E43-A866-4CA8-B9DA-8CE33AA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079A-B92C-4B9C-91A1-E9B04F7F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64F9-FC4A-4A5D-8358-D65A3FE7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CCDE-C7F1-4CBD-9ECC-DD669539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E92C-DFE9-4892-B640-F306A721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40C6-BB3E-475C-9499-BCA8B76F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81DE-83E3-4CAA-8FED-7BA5C314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9F45C-EBAD-499B-92D9-E7381981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400E-71F8-4F2E-A948-F934739B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545-17AC-46B3-A2DE-EE567F4F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36AE4-C807-4F69-A328-8D339017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C9A3-F4A5-4E39-AD0F-37D5D8DF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B149-C735-41C5-B023-D5949635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38AE-444D-4AD0-8A2A-134D6B03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265A-D2AF-432C-9C05-B5F93153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20B09-02DB-480D-AB00-A3217BB3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239F-460B-4691-9A87-17924795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700C7-4F3E-46D2-9D45-A4B6BC05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77CB-2721-461B-897D-74F9BCD6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A300A-651E-4172-A15E-6DE00535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631-F304-49A5-AB3F-3F8C9044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BC60-AA4A-466B-9431-40C2479D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A5EE2-BDE5-4407-AE84-A892F3AA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85815-5BB8-4738-8BB7-21D31020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04D5F-F7BD-466C-B282-90F3F5AA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7F2FC-0EBD-4455-BBDA-227C0387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42D3-E58C-4165-9A51-A2E9A683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2DA9-E743-4A46-84AE-DD6BB498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7EEB-98FD-493F-B9F4-4FF4D55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7BA7F-348A-45EF-A9E3-E042ACD6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6AF49-8A5E-4CC0-ADB8-36CA347E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0F2-D5F0-475B-8B22-5470A584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B0D4E-D56A-435C-A607-119332EF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4E2C2-59C9-427C-95FD-EAC3BD82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37247-7989-4479-95DA-5183F2D5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A819B-48A5-4B0F-9056-0FA89939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E16EF-3B4C-4D01-B54C-22C36A31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51D8B-6686-4907-9EC3-F2BC5BDB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4063B-2D82-435D-9848-BC7A2B27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C12AA-8D30-42AD-9619-0A721ED3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69D83-F77D-4CD0-AEEE-27CE4102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F5DED-72F8-4FEE-A491-644A6B9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D11-81B1-47F9-B562-923F721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0ED7C-5CAF-41AC-BDDC-AE10A81E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D0AB2-0A80-4EE4-93D7-2C7C72B6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0181B-8C4D-4DE5-A1CE-DCF2797D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D0CC8-475D-49CB-9172-284F9E62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E89BD-30CF-4369-B159-9D1363FF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E605F-EDDE-4DE1-AC29-D2A64C65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73D09-BA83-4BE0-A61D-82614AE4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890E3-7ECF-4411-BECE-E57706B4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A3029-8E05-4486-A705-3E607116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02C57-8107-4595-A64A-F2717AE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E90-F96F-4FDD-8930-CC8CB3C6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2E6FA-91F8-4370-A5AB-E8F3CC8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1FDED-BB6E-437D-9399-1058806C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23FD4-DE41-4B79-BD48-2862C09B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849DF-3A82-4BEB-8BD0-BE438ED9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563D7-D9B2-4562-A4A0-D397F1DC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015BB-7B9C-43AA-A258-C89A855E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28BAA-F77A-4253-9309-DF2E763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A6A5-21D5-4E83-8D1B-2465CC96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1CDCF-FC10-4CF2-82C9-B36554D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076F9-F5D8-4679-8531-1D6DD2D2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876-6DAE-4842-9F2F-B7CEF99A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AB21B-E322-4971-9E22-AC14A196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90AA-F687-4B26-9E45-39BC614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2E424-2720-47C2-BFD2-3D3E439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70128-6E1E-4682-9CD1-C4ED2C34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C9549-FADF-40DA-9A76-C086A048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F76BC-946A-4BA9-A4AA-6A678654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2C681-7DE9-423E-ADF4-A08D65BD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EA199-4D04-4C5C-A0BD-B2251042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BC67C-D250-48AF-9BB7-AB8BB6AD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D1940-D9EC-44ED-9BA3-662EFDF3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3FBE-2136-4729-AA81-A82FB7AFA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010A-543E-4FE3-BE85-FA472FB9B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108D-38C4-4361-BEBF-92BC1DAF2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C1F9-0D36-467B-B42C-A5029AFA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4665-69E4-4179-9793-03F6C1653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A72A-2343-4199-BEF1-28D73C232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8FD1-8650-40FA-9552-7C4261F9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6EAE-21D7-42D7-BA12-C4AB12111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9EEA-F139-475D-BA8F-44A1DCF8F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D385-F170-41C1-9DB6-5D6B53EFF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DB23-080A-44C0-8CB5-7C5BE2DF4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E533-691A-4B38-A9BD-D930DD177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A380-CD53-4143-BA10-641BBD4E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D6A8-5F42-4E0C-B99D-C5096F23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9FAD-697D-4245-904B-8B0493207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BE5D-F7F8-4487-816D-B2E547A20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2A76-AD4B-4D55-B66A-EBC4EBA05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F0F3-7421-4502-819F-B69ADF38D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D3E-BB67-45CF-AC50-AEE118BE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8BB2-A63D-4173-9564-E754526C1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4BD0-C78D-4C38-834B-EFF9DAD3E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548F-BDE3-4CF4-81B7-262837D51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464C-BE6E-4485-856A-4F7E22055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AB40-1A9D-41A1-9DDD-8EAB15ED3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DE79-696C-410F-B192-D60360F1A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.mofile.com/picture/7FD0VYQ4UK_10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zoe.com/historic/html/1964-1-27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WordArt 4"/>
          <p:cNvSpPr txBox="1"/>
          <p:nvPr/>
        </p:nvSpPr>
        <p:spPr>
          <a:xfrm>
            <a:off x="763560" y="1220760"/>
            <a:ext cx="69343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解比例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3"/>
          <p:cNvSpPr/>
          <p:nvPr/>
        </p:nvSpPr>
        <p:spPr>
          <a:xfrm>
            <a:off x="-171360" y="149868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比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3481560" y="1160640"/>
            <a:ext cx="11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48080" y="187956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5114880" y="12063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114880" y="18795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2063880" y="2725560"/>
            <a:ext cx="68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：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 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  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3933720" y="3875040"/>
            <a:ext cx="106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3976560" y="49784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5207040" y="2647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7477200" y="2665440"/>
            <a:ext cx="106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3"/>
          <p:cNvSpPr/>
          <p:nvPr/>
        </p:nvSpPr>
        <p:spPr>
          <a:xfrm>
            <a:off x="5291280" y="3451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4"/>
          <p:cNvSpPr/>
          <p:nvPr/>
        </p:nvSpPr>
        <p:spPr>
          <a:xfrm>
            <a:off x="6827760" y="34527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5"/>
          <p:cNvSpPr/>
          <p:nvPr/>
        </p:nvSpPr>
        <p:spPr>
          <a:xfrm>
            <a:off x="5430960" y="4978440"/>
            <a:ext cx="8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Group 16"/>
          <p:cNvGrpSpPr/>
          <p:nvPr/>
        </p:nvGrpSpPr>
        <p:grpSpPr>
          <a:xfrm>
            <a:off x="5140440" y="3505320"/>
            <a:ext cx="2393640" cy="1339200"/>
            <a:chOff x="5140440" y="3505320"/>
            <a:chExt cx="2393640" cy="1339200"/>
          </a:xfrm>
        </p:grpSpPr>
        <p:sp>
          <p:nvSpPr>
            <p:cNvPr id="1128" name="Text Box 17"/>
            <p:cNvSpPr/>
            <p:nvPr/>
          </p:nvSpPr>
          <p:spPr>
            <a:xfrm>
              <a:off x="5274360" y="3505320"/>
              <a:ext cx="21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     )×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>
              <a:off x="5140440" y="4184640"/>
              <a:ext cx="239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9"/>
            <p:cNvSpPr/>
            <p:nvPr/>
          </p:nvSpPr>
          <p:spPr>
            <a:xfrm>
              <a:off x="5857560" y="4201920"/>
              <a:ext cx="105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20"/>
          <p:cNvSpPr/>
          <p:nvPr/>
        </p:nvSpPr>
        <p:spPr>
          <a:xfrm>
            <a:off x="5997600" y="4205160"/>
            <a:ext cx="10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22" descr="图片7"/>
          <p:cNvPicPr/>
          <p:nvPr/>
        </p:nvPicPr>
        <p:blipFill>
          <a:blip r:embed="rId1"/>
          <a:stretch/>
        </p:blipFill>
        <p:spPr>
          <a:xfrm flipH="1">
            <a:off x="477720" y="4537080"/>
            <a:ext cx="1231920" cy="1498680"/>
          </a:xfrm>
          <a:prstGeom prst="rect">
            <a:avLst/>
          </a:prstGeom>
          <a:ln w="0">
            <a:noFill/>
          </a:ln>
        </p:spPr>
      </p:pic>
      <p:sp>
        <p:nvSpPr>
          <p:cNvPr id="1133" name="文本框 1"/>
          <p:cNvSpPr/>
          <p:nvPr/>
        </p:nvSpPr>
        <p:spPr>
          <a:xfrm>
            <a:off x="477720" y="533520"/>
            <a:ext cx="1960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38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zh-CN" sz="3800" spc="-1" strike="noStrike">
                <a:solidFill>
                  <a:srgbClr val="c00000"/>
                </a:solidFill>
                <a:latin typeface="Times New Roman"/>
              </a:rPr>
              <a:t>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dd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Text Box 4"/>
          <p:cNvSpPr/>
          <p:nvPr/>
        </p:nvSpPr>
        <p:spPr>
          <a:xfrm>
            <a:off x="890640" y="113508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比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5"/>
          <p:cNvSpPr/>
          <p:nvPr/>
        </p:nvSpPr>
        <p:spPr>
          <a:xfrm>
            <a:off x="1619280" y="28004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×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6"/>
          <p:cNvSpPr/>
          <p:nvPr/>
        </p:nvSpPr>
        <p:spPr>
          <a:xfrm>
            <a:off x="3578400" y="44388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7"/>
          <p:cNvSpPr/>
          <p:nvPr/>
        </p:nvSpPr>
        <p:spPr>
          <a:xfrm>
            <a:off x="5791320" y="1703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8"/>
          <p:cNvSpPr/>
          <p:nvPr/>
        </p:nvSpPr>
        <p:spPr>
          <a:xfrm>
            <a:off x="3200400" y="517032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Group 9"/>
          <p:cNvGrpSpPr/>
          <p:nvPr/>
        </p:nvGrpSpPr>
        <p:grpSpPr>
          <a:xfrm>
            <a:off x="3587760" y="3417840"/>
            <a:ext cx="3505320" cy="1176120"/>
            <a:chOff x="3587760" y="3417840"/>
            <a:chExt cx="3505320" cy="1176120"/>
          </a:xfrm>
        </p:grpSpPr>
        <p:grpSp>
          <p:nvGrpSpPr>
            <p:cNvPr id="1140" name="Group 10"/>
            <p:cNvGrpSpPr/>
            <p:nvPr/>
          </p:nvGrpSpPr>
          <p:grpSpPr>
            <a:xfrm>
              <a:off x="3587760" y="3417840"/>
              <a:ext cx="3505320" cy="885960"/>
              <a:chOff x="3587760" y="3417840"/>
              <a:chExt cx="3505320" cy="885960"/>
            </a:xfrm>
          </p:grpSpPr>
          <p:sp>
            <p:nvSpPr>
              <p:cNvPr id="1141" name="Text Box 11"/>
              <p:cNvSpPr/>
              <p:nvPr/>
            </p:nvSpPr>
            <p:spPr>
              <a:xfrm>
                <a:off x="3587760" y="3600360"/>
                <a:ext cx="3505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——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 Box 12"/>
              <p:cNvSpPr/>
              <p:nvPr/>
            </p:nvSpPr>
            <p:spPr>
              <a:xfrm>
                <a:off x="4572000" y="3417840"/>
                <a:ext cx="1508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8×4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3" name="Text Box 13"/>
            <p:cNvSpPr/>
            <p:nvPr/>
          </p:nvSpPr>
          <p:spPr>
            <a:xfrm>
              <a:off x="4788000" y="39513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4" name="Picture 17" descr="图片7"/>
          <p:cNvPicPr/>
          <p:nvPr/>
        </p:nvPicPr>
        <p:blipFill>
          <a:blip r:embed="rId1"/>
          <a:stretch/>
        </p:blipFill>
        <p:spPr>
          <a:xfrm>
            <a:off x="7443720" y="4581360"/>
            <a:ext cx="1089000" cy="1498680"/>
          </a:xfrm>
          <a:prstGeom prst="rect">
            <a:avLst/>
          </a:prstGeom>
          <a:ln w="0">
            <a:noFill/>
          </a:ln>
        </p:spPr>
      </p:pic>
      <p:sp>
        <p:nvSpPr>
          <p:cNvPr id="1145" name="文本框 16"/>
          <p:cNvSpPr/>
          <p:nvPr/>
        </p:nvSpPr>
        <p:spPr>
          <a:xfrm>
            <a:off x="533520" y="433440"/>
            <a:ext cx="1960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38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lang="zh-CN" sz="3800" spc="-1" strike="noStrike">
                <a:solidFill>
                  <a:srgbClr val="c00000"/>
                </a:solidFill>
                <a:latin typeface="Times New Roman"/>
              </a:rPr>
              <a:t>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概念：求比例中的未知数，叫做解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依据：比例的基本性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方法：一化（把“比”转化为“积”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解（求这个方程的“解”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矩形 5"/>
          <p:cNvSpPr/>
          <p:nvPr/>
        </p:nvSpPr>
        <p:spPr>
          <a:xfrm>
            <a:off x="609480" y="17524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根据比例的基本性质，如果已知比例中的任何三项，就可以求出另外一个未知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求比例中的未知项，叫做解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文本框 6"/>
          <p:cNvSpPr/>
          <p:nvPr/>
        </p:nvSpPr>
        <p:spPr>
          <a:xfrm>
            <a:off x="533520" y="533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节知识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62080" y="64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图表示速度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的汽车行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时的车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457200" y="1600200"/>
          <a:ext cx="7315200" cy="4389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  <a:gridCol w="121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cxnSp>
        <p:nvCxnSpPr>
          <p:cNvPr id="1037" name="直接箭头连接符 5"/>
          <p:cNvCxnSpPr/>
          <p:nvPr/>
        </p:nvCxnSpPr>
        <p:spPr>
          <a:xfrm>
            <a:off x="457200" y="6019560"/>
            <a:ext cx="7773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8" name="直接箭头连接符 8"/>
          <p:cNvCxnSpPr/>
          <p:nvPr/>
        </p:nvCxnSpPr>
        <p:spPr>
          <a:xfrm flipV="1">
            <a:off x="456840" y="1295280"/>
            <a:ext cx="1080" cy="472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9" name="直接连接符 14"/>
          <p:cNvSpPr/>
          <p:nvPr/>
        </p:nvSpPr>
        <p:spPr>
          <a:xfrm flipV="1">
            <a:off x="457200" y="1599840"/>
            <a:ext cx="7315200" cy="4419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6"/>
          <p:cNvSpPr/>
          <p:nvPr/>
        </p:nvSpPr>
        <p:spPr>
          <a:xfrm>
            <a:off x="1447920" y="6095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17"/>
          <p:cNvSpPr/>
          <p:nvPr/>
        </p:nvSpPr>
        <p:spPr>
          <a:xfrm>
            <a:off x="133200" y="57704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18"/>
          <p:cNvSpPr/>
          <p:nvPr/>
        </p:nvSpPr>
        <p:spPr>
          <a:xfrm>
            <a:off x="2685960" y="6086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19"/>
          <p:cNvSpPr/>
          <p:nvPr/>
        </p:nvSpPr>
        <p:spPr>
          <a:xfrm>
            <a:off x="3924360" y="6070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20"/>
          <p:cNvSpPr/>
          <p:nvPr/>
        </p:nvSpPr>
        <p:spPr>
          <a:xfrm>
            <a:off x="5181480" y="6070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21"/>
          <p:cNvSpPr/>
          <p:nvPr/>
        </p:nvSpPr>
        <p:spPr>
          <a:xfrm>
            <a:off x="6400800" y="602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22"/>
          <p:cNvSpPr/>
          <p:nvPr/>
        </p:nvSpPr>
        <p:spPr>
          <a:xfrm>
            <a:off x="7505640" y="59864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23"/>
          <p:cNvSpPr/>
          <p:nvPr/>
        </p:nvSpPr>
        <p:spPr>
          <a:xfrm>
            <a:off x="-146160" y="427680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24"/>
          <p:cNvSpPr/>
          <p:nvPr/>
        </p:nvSpPr>
        <p:spPr>
          <a:xfrm>
            <a:off x="-136440" y="355752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25"/>
          <p:cNvSpPr/>
          <p:nvPr/>
        </p:nvSpPr>
        <p:spPr>
          <a:xfrm>
            <a:off x="-149400" y="28274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26"/>
          <p:cNvSpPr/>
          <p:nvPr/>
        </p:nvSpPr>
        <p:spPr>
          <a:xfrm>
            <a:off x="-149400" y="207000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27"/>
          <p:cNvSpPr/>
          <p:nvPr/>
        </p:nvSpPr>
        <p:spPr>
          <a:xfrm>
            <a:off x="-136440" y="1382760"/>
            <a:ext cx="8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28"/>
          <p:cNvSpPr/>
          <p:nvPr/>
        </p:nvSpPr>
        <p:spPr>
          <a:xfrm>
            <a:off x="0" y="50068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29"/>
          <p:cNvSpPr/>
          <p:nvPr/>
        </p:nvSpPr>
        <p:spPr>
          <a:xfrm>
            <a:off x="593640" y="112536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文本框 30"/>
          <p:cNvSpPr/>
          <p:nvPr/>
        </p:nvSpPr>
        <p:spPr>
          <a:xfrm>
            <a:off x="7586640" y="545796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观察右表，你能写出哪些比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6" name=""/>
          <p:cNvGraphicFramePr/>
          <p:nvPr/>
        </p:nvGraphicFramePr>
        <p:xfrm>
          <a:off x="457200" y="1600200"/>
          <a:ext cx="8229600" cy="1036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时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路程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k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57" name="图片 4" descr=""/>
          <p:cNvPicPr/>
          <p:nvPr/>
        </p:nvPicPr>
        <p:blipFill>
          <a:blip r:embed="rId1"/>
          <a:stretch/>
        </p:blipFill>
        <p:spPr>
          <a:xfrm>
            <a:off x="0" y="4334040"/>
            <a:ext cx="1952640" cy="252396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5" descr=""/>
          <p:cNvPicPr/>
          <p:nvPr/>
        </p:nvPicPr>
        <p:blipFill>
          <a:blip r:embed="rId2"/>
          <a:stretch/>
        </p:blipFill>
        <p:spPr>
          <a:xfrm>
            <a:off x="7772400" y="4390920"/>
            <a:ext cx="1276200" cy="2467080"/>
          </a:xfrm>
          <a:prstGeom prst="rect">
            <a:avLst/>
          </a:prstGeom>
          <a:ln w="0">
            <a:noFill/>
          </a:ln>
        </p:spPr>
      </p:pic>
      <p:sp>
        <p:nvSpPr>
          <p:cNvPr id="1059" name="云形标注 6"/>
          <p:cNvSpPr/>
          <p:nvPr/>
        </p:nvSpPr>
        <p:spPr>
          <a:xfrm>
            <a:off x="1752480" y="3048120"/>
            <a:ext cx="3276720" cy="1114200"/>
          </a:xfrm>
          <a:prstGeom prst="cloudCallout">
            <a:avLst>
              <a:gd name="adj1" fmla="val -51092"/>
              <a:gd name="adj2" fmla="val 148532"/>
            </a:avLst>
          </a:prstGeom>
          <a:gradFill rotWithShape="0">
            <a:gsLst>
              <a:gs pos="0">
                <a:srgbClr val="e2f1f3"/>
              </a:gs>
              <a:gs pos="100000">
                <a:srgbClr val="bed5d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云形标注 7"/>
          <p:cNvSpPr/>
          <p:nvPr/>
        </p:nvSpPr>
        <p:spPr>
          <a:xfrm>
            <a:off x="5334120" y="3048120"/>
            <a:ext cx="3276360" cy="1114200"/>
          </a:xfrm>
          <a:prstGeom prst="cloudCallout">
            <a:avLst>
              <a:gd name="adj1" fmla="val 23212"/>
              <a:gd name="adj2" fmla="val 143587"/>
            </a:avLst>
          </a:prstGeom>
          <a:gradFill rotWithShape="0">
            <a:gsLst>
              <a:gs pos="0">
                <a:srgbClr val="e6f4f5"/>
              </a:gs>
              <a:gs pos="100000">
                <a:srgbClr val="d4edef"/>
              </a:gs>
            </a:gsLst>
            <a:lin ang="5400000"/>
          </a:gradFill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9"/>
          <p:cNvSpPr/>
          <p:nvPr/>
        </p:nvSpPr>
        <p:spPr>
          <a:xfrm>
            <a:off x="2095560" y="3127320"/>
            <a:ext cx="25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: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10"/>
          <p:cNvSpPr/>
          <p:nvPr/>
        </p:nvSpPr>
        <p:spPr>
          <a:xfrm>
            <a:off x="5676840" y="304020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怎样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61880" y="3885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imes New Roman"/>
              </a:rPr>
              <a:t>求比例中的未知项叫做解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3"/>
          <p:cNvSpPr/>
          <p:nvPr/>
        </p:nvSpPr>
        <p:spPr>
          <a:xfrm>
            <a:off x="1066680" y="16765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/100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3.5/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/100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y/240   y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4"/>
          <p:cNvSpPr/>
          <p:nvPr/>
        </p:nvSpPr>
        <p:spPr>
          <a:xfrm>
            <a:off x="4726080" y="1738440"/>
            <a:ext cx="401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法国巴黎的埃菲尔铁塔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京的“世界公园”里有一座埃菲尔铁塔的模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高度与原塔高度的比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这座模型高多少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8" descr="7FD0VYQ4UK_102_500_3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920" y="595440"/>
            <a:ext cx="4444920" cy="591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3"/>
          <p:cNvSpPr/>
          <p:nvPr/>
        </p:nvSpPr>
        <p:spPr>
          <a:xfrm>
            <a:off x="4626000" y="919080"/>
            <a:ext cx="44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这座模型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6"/>
          <p:cNvSpPr/>
          <p:nvPr/>
        </p:nvSpPr>
        <p:spPr>
          <a:xfrm>
            <a:off x="5151600" y="1727280"/>
            <a:ext cx="24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: 320 = 1 :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7"/>
          <p:cNvSpPr/>
          <p:nvPr/>
        </p:nvSpPr>
        <p:spPr>
          <a:xfrm>
            <a:off x="5898960" y="25509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 320×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"/>
          <p:cNvSpPr/>
          <p:nvPr/>
        </p:nvSpPr>
        <p:spPr>
          <a:xfrm>
            <a:off x="6346440" y="352440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12"/>
          <p:cNvGrpSpPr/>
          <p:nvPr/>
        </p:nvGrpSpPr>
        <p:grpSpPr>
          <a:xfrm>
            <a:off x="7256520" y="3314880"/>
            <a:ext cx="1407960" cy="998280"/>
            <a:chOff x="7256520" y="3314880"/>
            <a:chExt cx="1407960" cy="998280"/>
          </a:xfrm>
        </p:grpSpPr>
        <p:sp>
          <p:nvSpPr>
            <p:cNvPr id="1073" name="Rectangle 9"/>
            <p:cNvSpPr/>
            <p:nvPr/>
          </p:nvSpPr>
          <p:spPr>
            <a:xfrm>
              <a:off x="7304760" y="3314880"/>
              <a:ext cx="109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20×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10"/>
            <p:cNvSpPr/>
            <p:nvPr/>
          </p:nvSpPr>
          <p:spPr>
            <a:xfrm>
              <a:off x="7256520" y="3828960"/>
              <a:ext cx="14079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7651800" y="37926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angle 13"/>
          <p:cNvSpPr/>
          <p:nvPr/>
        </p:nvSpPr>
        <p:spPr>
          <a:xfrm>
            <a:off x="6368040" y="434808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=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4"/>
          <p:cNvSpPr/>
          <p:nvPr/>
        </p:nvSpPr>
        <p:spPr>
          <a:xfrm>
            <a:off x="4726080" y="5416560"/>
            <a:ext cx="44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座模型高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Picture 16" descr="media1003238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360" y="871560"/>
            <a:ext cx="4368960" cy="5549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Text Box 4"/>
          <p:cNvSpPr/>
          <p:nvPr/>
        </p:nvSpPr>
        <p:spPr>
          <a:xfrm>
            <a:off x="503280" y="485640"/>
            <a:ext cx="64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比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:2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3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53964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2928960" y="5014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3643200" y="5014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2071800" y="5014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4000680" y="5014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Group 23"/>
          <p:cNvGrpSpPr/>
          <p:nvPr/>
        </p:nvGrpSpPr>
        <p:grpSpPr>
          <a:xfrm>
            <a:off x="2843280" y="2844720"/>
            <a:ext cx="2678040" cy="1155600"/>
            <a:chOff x="2843280" y="2844720"/>
            <a:chExt cx="2678040" cy="1155600"/>
          </a:xfrm>
        </p:grpSpPr>
        <p:sp>
          <p:nvSpPr>
            <p:cNvPr id="1086" name="Text Box 18"/>
            <p:cNvSpPr/>
            <p:nvPr/>
          </p:nvSpPr>
          <p:spPr>
            <a:xfrm>
              <a:off x="2843280" y="313200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7" name="Object 19"/>
                <p:cNvSpPr txBox="1"/>
                <p:nvPr/>
              </p:nvSpPr>
              <p:spPr>
                <a:xfrm>
                  <a:off x="3751200" y="2844720"/>
                  <a:ext cx="177012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8" name="组合 25"/>
          <p:cNvGrpSpPr/>
          <p:nvPr/>
        </p:nvGrpSpPr>
        <p:grpSpPr>
          <a:xfrm>
            <a:off x="3276720" y="1628640"/>
            <a:ext cx="1726920" cy="713880"/>
            <a:chOff x="3276720" y="1628640"/>
            <a:chExt cx="1726920" cy="713880"/>
          </a:xfrm>
        </p:grpSpPr>
        <p:sp>
          <p:nvSpPr>
            <p:cNvPr id="1089" name="Text Box 14"/>
            <p:cNvSpPr/>
            <p:nvPr/>
          </p:nvSpPr>
          <p:spPr>
            <a:xfrm>
              <a:off x="3276720" y="169992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 Box 16"/>
            <p:cNvSpPr/>
            <p:nvPr/>
          </p:nvSpPr>
          <p:spPr>
            <a:xfrm>
              <a:off x="4356000" y="162864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Text Box 24"/>
          <p:cNvSpPr/>
          <p:nvPr/>
        </p:nvSpPr>
        <p:spPr>
          <a:xfrm>
            <a:off x="3780000" y="2276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4929120" y="3645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26"/>
          <p:cNvSpPr/>
          <p:nvPr/>
        </p:nvSpPr>
        <p:spPr>
          <a:xfrm>
            <a:off x="3780000" y="2997360"/>
            <a:ext cx="86328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27"/>
          <p:cNvSpPr/>
          <p:nvPr/>
        </p:nvSpPr>
        <p:spPr>
          <a:xfrm>
            <a:off x="4429080" y="3573360"/>
            <a:ext cx="43200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2843280" y="4508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1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31"/>
          <p:cNvSpPr/>
          <p:nvPr/>
        </p:nvSpPr>
        <p:spPr>
          <a:xfrm>
            <a:off x="6407280" y="2637000"/>
            <a:ext cx="2736720" cy="1512720"/>
          </a:xfrm>
          <a:prstGeom prst="wedgeEllipseCallout">
            <a:avLst>
              <a:gd name="adj1" fmla="val -35384"/>
              <a:gd name="adj2" fmla="val 874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根据比例的基本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4"/>
          <p:cNvSpPr/>
          <p:nvPr/>
        </p:nvSpPr>
        <p:spPr>
          <a:xfrm>
            <a:off x="15840" y="139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图片 5" descr=""/>
          <p:cNvPicPr/>
          <p:nvPr/>
        </p:nvPicPr>
        <p:blipFill>
          <a:blip r:embed="rId1"/>
          <a:stretch/>
        </p:blipFill>
        <p:spPr>
          <a:xfrm>
            <a:off x="4943520" y="4214880"/>
            <a:ext cx="19526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 0.16805 E">
                                      <p:cBhvr>
                                        <p:cTn id="82" dur="1000" fill="hold"/>
                                        <p:tgtEl>
                                          <p:spTgt spid="10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4 0.16805 E">
                                      <p:cBhvr>
                                        <p:cTn id="84" dur="1000" fill="hold"/>
                                        <p:tgtEl>
                                          <p:spTgt spid="10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326 0.16805 E">
                                      <p:cBhvr>
                                        <p:cTn id="94" dur="1000" fill="hold"/>
                                        <p:tgtEl>
                                          <p:spTgt spid="1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2.59259E-006 L 0.0901 0.17014 E">
                                      <p:cBhvr>
                                        <p:cTn id="96" dur="1000" fill="hold"/>
                                        <p:tgtEl>
                                          <p:spTgt spid="10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Text Box 4"/>
          <p:cNvSpPr/>
          <p:nvPr/>
        </p:nvSpPr>
        <p:spPr>
          <a:xfrm>
            <a:off x="468360" y="404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法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5"/>
          <p:cNvSpPr/>
          <p:nvPr/>
        </p:nvSpPr>
        <p:spPr>
          <a:xfrm>
            <a:off x="2771640" y="6922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:2 =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1" name="Group 19"/>
          <p:cNvGrpSpPr/>
          <p:nvPr/>
        </p:nvGrpSpPr>
        <p:grpSpPr>
          <a:xfrm>
            <a:off x="2843280" y="1413000"/>
            <a:ext cx="1081080" cy="576000"/>
            <a:chOff x="2843280" y="1413000"/>
            <a:chExt cx="1081080" cy="576000"/>
          </a:xfrm>
        </p:grpSpPr>
        <p:sp>
          <p:nvSpPr>
            <p:cNvPr id="1102" name="Line 6"/>
            <p:cNvSpPr/>
            <p:nvPr/>
          </p:nvSpPr>
          <p:spPr>
            <a:xfrm>
              <a:off x="2843280" y="1413000"/>
              <a:ext cx="108108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7"/>
            <p:cNvSpPr/>
            <p:nvPr/>
          </p:nvSpPr>
          <p:spPr>
            <a:xfrm>
              <a:off x="3419640" y="1413000"/>
              <a:ext cx="0" cy="5760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Text Box 8"/>
          <p:cNvSpPr/>
          <p:nvPr/>
        </p:nvSpPr>
        <p:spPr>
          <a:xfrm>
            <a:off x="3132000" y="213984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5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Group 21"/>
          <p:cNvGrpSpPr/>
          <p:nvPr/>
        </p:nvGrpSpPr>
        <p:grpSpPr>
          <a:xfrm>
            <a:off x="4427640" y="1413000"/>
            <a:ext cx="1224000" cy="576000"/>
            <a:chOff x="4427640" y="1413000"/>
            <a:chExt cx="1224000" cy="576000"/>
          </a:xfrm>
        </p:grpSpPr>
        <p:sp>
          <p:nvSpPr>
            <p:cNvPr id="1106" name="Line 9"/>
            <p:cNvSpPr/>
            <p:nvPr/>
          </p:nvSpPr>
          <p:spPr>
            <a:xfrm>
              <a:off x="4427640" y="1413000"/>
              <a:ext cx="1224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0"/>
            <p:cNvSpPr/>
            <p:nvPr/>
          </p:nvSpPr>
          <p:spPr>
            <a:xfrm>
              <a:off x="5076720" y="1413000"/>
              <a:ext cx="0" cy="57600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8" name="Object 12"/>
              <p:cNvSpPr txBox="1"/>
              <p:nvPr/>
            </p:nvSpPr>
            <p:spPr>
              <a:xfrm>
                <a:off x="4641840" y="1889280"/>
                <a:ext cx="70164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9" name="Text Box 13"/>
          <p:cNvSpPr/>
          <p:nvPr/>
        </p:nvSpPr>
        <p:spPr>
          <a:xfrm>
            <a:off x="3691080" y="31478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50×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5"/>
          <p:cNvSpPr/>
          <p:nvPr/>
        </p:nvSpPr>
        <p:spPr>
          <a:xfrm>
            <a:off x="3692520" y="4005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1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16"/>
          <p:cNvSpPr/>
          <p:nvPr/>
        </p:nvSpPr>
        <p:spPr>
          <a:xfrm>
            <a:off x="6838920" y="3141720"/>
            <a:ext cx="2305080" cy="1439640"/>
          </a:xfrm>
          <a:prstGeom prst="wedgeRoundRectCallout">
            <a:avLst>
              <a:gd name="adj1" fmla="val -44560"/>
              <a:gd name="adj2" fmla="val 73041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先分别写出两个比的比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20"/>
          <p:cNvSpPr/>
          <p:nvPr/>
        </p:nvSpPr>
        <p:spPr>
          <a:xfrm>
            <a:off x="3995640" y="2133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图片 4" descr=""/>
          <p:cNvPicPr/>
          <p:nvPr/>
        </p:nvPicPr>
        <p:blipFill>
          <a:blip r:embed="rId1"/>
          <a:stretch/>
        </p:blipFill>
        <p:spPr>
          <a:xfrm>
            <a:off x="5651640" y="4390920"/>
            <a:ext cx="12762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4T06:54:55Z</dcterms:created>
  <dc:creator/>
  <dc:description/>
  <cp:keywords/>
  <dc:language>en-US</dc:language>
  <cp:lastModifiedBy/>
  <dcterms:modified xsi:type="dcterms:W3CDTF">2015-05-14T06:55:01Z</dcterms:modified>
  <cp:revision>1</cp:revision>
  <dc:subject/>
  <dc:title/>
</cp:coreProperties>
</file>